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41F-7944-4CB2-841D-95344581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CDF-F55D-4A6F-ABF5-E2B498A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BE3-0D85-4002-A204-5146089D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DEB-9570-4C36-B5EF-1BD5A3E3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719-BB71-4D80-9046-9A51B4F9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A01-59D9-4A68-8873-76BAFFE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17C-9CDF-4F82-B5FD-F1C146B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74E-715A-4898-9BA9-D990340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3B4-B259-45E0-9D34-F5F19000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B07-191B-4AE6-B8BB-20806D40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E57-CD5A-43A8-9267-68DA0EB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990-9E21-4C4A-A4EE-D300737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1" marL="5760" indent="-4320">
              <a:spcBef>
                <a:spcPts val="3251"/>
              </a:spcBef>
              <a:buClr>
                <a:srgbClr val="000000"/>
              </a:buClr>
              <a:buFont typeface="Kepler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2" marL="217440" indent="-210240">
              <a:spcBef>
                <a:spcPts val="3251"/>
              </a:spcBef>
              <a:buClr>
                <a:srgbClr val="000000"/>
              </a:buClr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3" marL="42912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4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5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6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Bol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Bold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440"/>
            <a:ext cx="1233360" cy="68565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33160" y="640044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Frutiger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3B64-E1BE-423B-A784-0868B2B1769B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440"/>
            <a:ext cx="7807320" cy="50277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2520"/>
            <a:ext cx="5754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Frutiger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4571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Bold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5"/>
          </p:nvPr>
        </p:nvSpPr>
        <p:spPr>
          <a:xfrm>
            <a:off x="1676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eplerRegular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  <a:p>
            <a:pPr lvl="1" marL="1440" indent="0" algn="ct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  <a:p>
            <a:pPr lvl="2" marL="7920" algn="ctr">
              <a:spcBef>
                <a:spcPts val="1199"/>
              </a:spcBef>
              <a:buClr>
                <a:srgbClr val="000000"/>
              </a:buClr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  <a:p>
            <a:pPr lvl="3" marL="237960" algn="ctr">
              <a:spcBef>
                <a:spcPts val="550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  <a:p>
            <a:pPr lvl="4" marL="468360" algn="ctr">
              <a:spcBef>
                <a:spcPts val="275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  <a:p>
            <a:pPr lvl="5" marL="468360">
              <a:spcBef>
                <a:spcPts val="550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  <a:p>
            <a:pPr lvl="6" marL="468360">
              <a:spcBef>
                <a:spcPts val="550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2520"/>
            <a:ext cx="5754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FrutigerBold"/>
              </a:rPr>
              <a:t>Introduction to the Industrial Revolution</a:t>
            </a:r>
            <a:endParaRPr b="0" lang="en-US" sz="3000" spc="-1" strike="noStrike">
              <a:solidFill>
                <a:srgbClr val="ffffff"/>
              </a:solidFill>
              <a:latin typeface="Frutiger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219320"/>
            <a:ext cx="5754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eplerRegular"/>
              </a:rPr>
              <a:t>McIntyre</a:t>
            </a: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pic>
        <p:nvPicPr>
          <p:cNvPr id="85" name="TranscontinentalRR" descr=""/>
          <p:cNvPicPr/>
          <p:nvPr/>
        </p:nvPicPr>
        <p:blipFill>
          <a:blip r:embed="rId1"/>
          <a:stretch/>
        </p:blipFill>
        <p:spPr>
          <a:xfrm>
            <a:off x="3200400" y="1774800"/>
            <a:ext cx="5029200" cy="396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5791320"/>
            <a:ext cx="48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Workers Celebration Completion of the Transcontinental Railroad”</a:t>
            </a: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Railroad workers gather in Promontory, Utah, to celebrate the completion of the first Transcontinental Railroad on May 10, 1869</a:t>
            </a: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91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876920"/>
            <a:ext cx="5105520" cy="45972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ival of the Fittest”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5638680"/>
            <a:ext cx="5105520" cy="119124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ch have more money because they run better busines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1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2514600"/>
            <a:ext cx="2666880" cy="36828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Business Practice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600200"/>
            <a:ext cx="1905120" cy="64260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Social Darwinism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206" name="billgates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841480" cy="43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17D-DF57-4DDD-AF75-F4AE05C8AD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210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4876920"/>
            <a:ext cx="5105520" cy="459720"/>
          </a:xfrm>
          <a:prstGeom prst="rect">
            <a:avLst/>
          </a:prstGeom>
          <a:solidFill>
            <a:srgbClr val="a2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issez-Faire “Hands Off!”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638680"/>
            <a:ext cx="5105520" cy="825480"/>
          </a:xfrm>
          <a:prstGeom prst="rect">
            <a:avLst/>
          </a:prstGeom>
          <a:solidFill>
            <a:srgbClr val="a2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rnment did not interfere with the economy and busines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2514600"/>
            <a:ext cx="2666880" cy="36828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Business Practice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1600200"/>
            <a:ext cx="1905120" cy="64260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Social Darwinism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80880"/>
            <a:ext cx="1828800" cy="642600"/>
          </a:xfrm>
          <a:prstGeom prst="rect">
            <a:avLst/>
          </a:prstGeom>
          <a:solidFill>
            <a:srgbClr val="a2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Government Laissez -Faire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226" name="handsoff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345924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022-44B7-4951-BE67-851F8AC2A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inking Slide: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you think we could use more “Laissez faire” economic policies today?  Explain.</a:t>
            </a:r>
            <a:endParaRPr b="0" lang="en-US" sz="40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E55-2D66-4A57-B200-018BCA7E2B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e Industrial Revolution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at?  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82880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Major change in the economy caused by the shift to industry with labor-saving machine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en?  </a:t>
            </a:r>
            <a:endParaRPr b="0" lang="en-US" sz="26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6576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Really got going in America after the Civil War (1860s +)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8BB-C70D-404E-BCAC-F4FF745A4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e Industrial Revolution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657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took off after  the Civil War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41911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1840 US had 3,000 miles of track and by 1860 30,000</a:t>
            </a:r>
            <a:endParaRPr b="0" lang="en-US" sz="20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5257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d many business practices that made the Industrial Revolution possible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97" name="Replicasteam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047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99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3FE-C289-4130-94F7-2229DCD2BD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505320"/>
            <a:ext cx="49528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deral government gives western land free to railroads to encourage businesses &amp; settlement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5257800"/>
            <a:ext cx="502920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ilroads took farmers out to their land, carried their crops to market, &amp; brought them manufactured good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10" name="homesteadfarmers" descr=""/>
          <p:cNvPicPr/>
          <p:nvPr/>
        </p:nvPicPr>
        <p:blipFill>
          <a:blip r:embed="rId1"/>
          <a:srcRect l="35703" t="7500" r="0" b="0"/>
          <a:stretch/>
        </p:blipFill>
        <p:spPr>
          <a:xfrm>
            <a:off x="380880" y="2057400"/>
            <a:ext cx="3426120" cy="39117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12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091-6C5C-4086-805A-DB46132889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23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505320"/>
            <a:ext cx="5105520" cy="119124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ilroad companies advertise in Europe to attract immigrants to new land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257800"/>
            <a:ext cx="5105520" cy="119124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migrants settle in cities, joining the urban industrial workforce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34" name="Immigrants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35320" cy="464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42B-7BBE-493E-9031-2D0FE6206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38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505320"/>
            <a:ext cx="5105520" cy="15570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ilroads made cities possible, providing them with the food they needed, raw materials, and new market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5257800"/>
            <a:ext cx="5105520" cy="82548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1st time, more people have non-farming than farming job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50" name="city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370320" cy="426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97A-B15F-4F1D-AB6D-0575A230B9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inking Slide: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371600"/>
            <a:ext cx="594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cause do you think is most important so far? Explain.</a:t>
            </a:r>
            <a:endParaRPr b="0" lang="en-US" sz="4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CC0-FFC6-4396-8837-96278B3582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56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733920"/>
            <a:ext cx="5105520" cy="8254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el rails – safer and cheaper than iron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5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68" name="Lightbulb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857320" cy="4497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24280" y="464832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 examples: Cash register, typewriter, refrigerator car, Telephone, Lightbulb, Phonograph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2AA-8A7B-4AE8-AD93-8355B5C675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73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733920"/>
            <a:ext cx="5105520" cy="119124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l” – agreement to divide the business in a given area and share the profit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5257800"/>
            <a:ext cx="5105520" cy="119124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there is $ there is corruption and railroads introduced much of bo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14600"/>
            <a:ext cx="2666880" cy="36828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Business Practice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87" name="Trusts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029040" cy="45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728-6813-4337-9DA6-0D00EC3B5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7:15:57Z</dcterms:created>
  <dc:creator>Steffanie Haase</dc:creator>
  <dc:description/>
  <dc:language>en-US</dc:language>
  <cp:lastModifiedBy>ME</cp:lastModifiedBy>
  <cp:lastPrinted>2002-10-01T15:28:09Z</cp:lastPrinted>
  <dcterms:modified xsi:type="dcterms:W3CDTF">2006-03-03T03:00:42Z</dcterms:modified>
  <cp:revision>115</cp:revision>
  <dc:subject/>
  <dc:title>PowerPoint Presentation</dc:title>
</cp:coreProperties>
</file>